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CBA0A-49FC-4021-9835-04E393E43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78AD0-5345-45EC-B5E1-5D836FD50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10DEE-783C-4DC3-8216-3B12C1F8F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8E261-CF41-4B8E-8E1E-F41ABDA38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09E7F-B9BD-4B25-9286-4D7228EBF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A43DB-C749-41E2-9B82-7B53BE5F1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7A2A3-4E07-4BD7-B2F6-BB8F5170C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71762-D8CF-4C0E-924C-B2C19DFF3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82713-41BB-4E07-AEAA-3FAB1F9A6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EAE89-E877-491F-ACD9-DB2A1DFE1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CE8D7-4E42-4B5C-A60F-AAEC6315B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159FA-300F-472F-ABD8-920010596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C94AA-C8FB-40C2-9283-06D4EB845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8BA92-02ED-4557-8531-E1ACC2FE6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5EF6D-E5FD-43E6-A279-F7F00A97B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06ACF-835F-4221-9A9E-FC4DAD6D7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31F64-2E78-48D3-8F7B-81E998424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C4609-F7D5-41B8-8FD9-5AF1C4C43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3C071-441D-40A6-9129-494AC5F01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91FC1-4D43-4580-9308-4AAC17743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2A96C-FDFA-498B-B175-A5F6135EA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187DE-BE3D-4771-828F-D049B2FD5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24EE6-C954-440C-941F-DE9D8961C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3D46-8F88-47C9-B82A-F958E1872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C72C-C976-429F-B3B0-7326F9586BF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5" name=""/>
          <p:cNvGrpSpPr/>
          <p:nvPr/>
        </p:nvGrpSpPr>
        <p:grpSpPr>
          <a:xfrm>
            <a:off x="0" y="0"/>
            <a:ext cx="8458200" cy="5943600"/>
            <a:chOff x="0" y="0"/>
            <a:chExt cx="8458200" cy="5943600"/>
          </a:xfrm>
        </p:grpSpPr>
        <p:sp>
          <p:nvSpPr>
            <p:cNvPr id="4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50"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333F-641F-4933-8DA6-F03ECE3C507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tvdsb.on.ca/westmin/science/sbi3a1/digest/digdiag.htm" TargetMode="External"/><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kidshealth.org/kid/body/digest_noSW.html" TargetMode="Externa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6858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Digestive System</a:t>
            </a:r>
            <a:endParaRPr b="0" lang="en-US" sz="5400" spc="-1" strike="noStrike">
              <a:solidFill>
                <a:srgbClr val="ffffcc"/>
              </a:solidFill>
              <a:latin typeface="Tahoma"/>
            </a:endParaRPr>
          </a:p>
        </p:txBody>
      </p:sp>
      <p:pic>
        <p:nvPicPr>
          <p:cNvPr id="90" name="" descr=""/>
          <p:cNvPicPr/>
          <p:nvPr/>
        </p:nvPicPr>
        <p:blipFill>
          <a:blip r:embed="rId1"/>
          <a:stretch/>
        </p:blipFill>
        <p:spPr>
          <a:xfrm>
            <a:off x="3429000" y="2819520"/>
            <a:ext cx="2643120" cy="3430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uth</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zymes in the saliva begin digestion of carbohydra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sophagus</a:t>
            </a:r>
            <a:br>
              <a:rPr sz="3200"/>
            </a:b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sophagus is a muscular tube. It takes food from the throat and pushes it down through the neck, and into the stomach.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moves food by waves of muscle contraction called peristals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08" name="PlaceHolder 2"/>
          <p:cNvSpPr>
            <a:spLocks noGrp="1"/>
          </p:cNvSpPr>
          <p:nvPr>
            <p:ph/>
          </p:nvPr>
        </p:nvSpPr>
        <p:spPr>
          <a:xfrm>
            <a:off x="304560" y="1599840"/>
            <a:ext cx="88390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omach</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omach has thick muscles in its wall. These contract to mash the food into a water soup called chym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omach lining produces strong digestive juic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10" name="PlaceHolder 2"/>
          <p:cNvSpPr>
            <a:spLocks noGrp="1"/>
          </p:cNvSpPr>
          <p:nvPr>
            <p:ph/>
          </p:nvPr>
        </p:nvSpPr>
        <p:spPr>
          <a:xfrm>
            <a:off x="304560" y="2057400"/>
            <a:ext cx="8839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tomac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create chemical reactions in the stomach, breaking down and dissolving its nutrien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12" name="PlaceHolder 2"/>
          <p:cNvSpPr>
            <a:spLocks noGrp="1"/>
          </p:cNvSpPr>
          <p:nvPr>
            <p:ph/>
          </p:nvPr>
        </p:nvSpPr>
        <p:spPr>
          <a:xfrm>
            <a:off x="304920" y="190512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mall Intestin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part of the digestive tract is narrow, but very long - about 20 fee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zymes continue the chemical reactions on the foo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14" name="PlaceHolder 2"/>
          <p:cNvSpPr>
            <a:spLocks noGrp="1"/>
          </p:cNvSpPr>
          <p:nvPr>
            <p:ph/>
          </p:nvPr>
        </p:nvSpPr>
        <p:spPr>
          <a:xfrm>
            <a:off x="304560" y="1752480"/>
            <a:ext cx="84582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mall Intestin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utrients are broken down small enough to pass through the lining of the small intestine, and into the blood (diffusion).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trients are carried away to the liver and other body parts to be processed, stored and distribu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16" name="PlaceHolder 2"/>
          <p:cNvSpPr>
            <a:spLocks noGrp="1"/>
          </p:cNvSpPr>
          <p:nvPr>
            <p:ph/>
          </p:nvPr>
        </p:nvSpPr>
        <p:spPr>
          <a:xfrm>
            <a:off x="456840" y="1980720"/>
            <a:ext cx="8001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rge Intestine</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ful substances that were not absorbed in the small intestine, such as spare water and body minerals, are absorbed through the walls of the large intestine, back into the bloo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18" name="PlaceHolder 2"/>
          <p:cNvSpPr>
            <a:spLocks noGrp="1"/>
          </p:cNvSpPr>
          <p:nvPr>
            <p:ph/>
          </p:nvPr>
        </p:nvSpPr>
        <p:spPr>
          <a:xfrm>
            <a:off x="609120" y="1980720"/>
            <a:ext cx="762012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rge Intestine</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mains are formed into brown, semi-solid feces, ready to be removed from the bod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21" name="PlaceHolder 2"/>
          <p:cNvSpPr>
            <a:spLocks noGrp="1"/>
          </p:cNvSpPr>
          <p:nvPr>
            <p:ph/>
          </p:nvPr>
        </p:nvSpPr>
        <p:spPr>
          <a:xfrm>
            <a:off x="380880" y="1828800"/>
            <a:ext cx="8229600" cy="449568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ctum and Anus</a:t>
            </a:r>
            <a:br>
              <a:rPr sz="3200"/>
            </a:b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nd of the large intestine and the next part of the tract, the rectum, store the feces.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ces are finally squeezed through a ring of muscle, the anus, and out of the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w is food digested?</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ancreas</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ancreas, like the stomach, makes digestive juices called enzymes which help to digest food further as it enters the small intestin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25" name="PlaceHolder 2"/>
          <p:cNvSpPr>
            <a:spLocks noGrp="1"/>
          </p:cNvSpPr>
          <p:nvPr>
            <p:ph/>
          </p:nvPr>
        </p:nvSpPr>
        <p:spPr>
          <a:xfrm>
            <a:off x="304920" y="2133360"/>
            <a:ext cx="822960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all Bladder</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mall baglike part under the liv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stores a fluid called bile, which is made in the li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27"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all Bladder</a:t>
            </a:r>
            <a:br>
              <a:rPr sz="3200"/>
            </a:b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food from a meal enters the small intestine, bile flows from the gall bladder along the bile duct into the intestine.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helps to digest fatty foods and also contains wastes for remov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29" name="PlaceHolder 2"/>
          <p:cNvSpPr>
            <a:spLocks noGrp="1"/>
          </p:cNvSpPr>
          <p:nvPr>
            <p:ph/>
          </p:nvPr>
        </p:nvSpPr>
        <p:spPr>
          <a:xfrm>
            <a:off x="456840" y="2362320"/>
            <a:ext cx="838188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ver</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ood from the intestines enters to the liver, carrying nutrients, vitamins and minerals, and other products from diges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31" name="PlaceHolder 2"/>
          <p:cNvSpPr>
            <a:spLocks noGrp="1"/>
          </p:cNvSpPr>
          <p:nvPr>
            <p:ph/>
          </p:nvPr>
        </p:nvSpPr>
        <p:spPr>
          <a:xfrm>
            <a:off x="304560" y="1905120"/>
            <a:ext cx="838188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ver</a:t>
            </a:r>
            <a:br>
              <a:rPr sz="3200"/>
            </a:b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iver is like a food-processing factory with more than 200 different jobs. It stores some nutrients, changes them from one form to another, and releases them into the blood according to the activities and needs of the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o quiz yourself over the parts of the digestive system, click here:</a:t>
            </a:r>
            <a:endParaRPr b="0" lang="en-US" sz="4800" spc="-1" strike="noStrike">
              <a:solidFill>
                <a:srgbClr val="ffffcc"/>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www.tvdsb.on.ca/westmin/science/sbi3a1/digest/digdiag.htm</a:t>
            </a:r>
            <a:r>
              <a:rPr b="0" lang="en-US" sz="3200" spc="-1" strike="noStrike" u="sng">
                <a:solidFill>
                  <a:srgbClr val="ffffff"/>
                </a:solidFill>
                <a:uFillTx/>
                <a:latin typeface="Tahoma"/>
              </a:rPr>
              <a:t> </a:t>
            </a: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be water</a:t>
            </a:r>
            <a:endParaRPr b="0" lang="en-US" sz="44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of the nutrients in your body can't be used unless they are carried in a solution. This means that they have to be dissolved in wat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cells, chemical reactions take place in solutions. </a:t>
            </a: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be water</a:t>
            </a: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of the material absorbed from the cavity of the small intestine is water in which salt is dissolv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lt and water come from the food and liquid we swallow and the juices secreted by the many digestive glands.</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For more information about the digestive system, click here:</a:t>
            </a:r>
            <a:endParaRPr b="0" lang="en-US" sz="4800" spc="-1" strike="noStrike">
              <a:solidFill>
                <a:srgbClr val="ffffcc"/>
              </a:solidFill>
              <a:latin typeface="Tahoma"/>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kidshealth.org/kid/body/digest_noSW.html</a:t>
            </a:r>
            <a:r>
              <a:rPr b="0" lang="en-US" sz="3200" spc="-1" strike="noStrike" u="sng">
                <a:solidFill>
                  <a:srgbClr val="ffffff"/>
                </a:solidFill>
                <a:uFillTx/>
                <a:latin typeface="Tahoma"/>
              </a:rPr>
              <a:t> </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w is food digested?</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estion involves:</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eaking down of food into smaller pieces</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xing of food</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ement through the digestive tract</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cal breakdown of the large molecules of food into smaller molecules. </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be the digestive system</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be the digestive system</a:t>
            </a: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gestive tract is a series of hollow organs joined in a tube from the mouth to the anus.  Food passes through the digestive trac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ory organs include the liver, gall bladder, and pancreas.  Food does not pass through these organs.</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the organs of the digestive system</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the organs of the digestive system</a:t>
            </a:r>
            <a:endParaRPr b="0" lang="en-US" sz="4000" spc="-1" strike="noStrike">
              <a:solidFill>
                <a:srgbClr val="ffffcc"/>
              </a:solidFill>
              <a:latin typeface="Tahoma"/>
            </a:endParaRPr>
          </a:p>
        </p:txBody>
      </p:sp>
      <p:pic>
        <p:nvPicPr>
          <p:cNvPr id="99" name="" descr="The digestive system"/>
          <p:cNvPicPr/>
          <p:nvPr/>
        </p:nvPicPr>
        <p:blipFill>
          <a:blip r:embed="rId1"/>
          <a:stretch/>
        </p:blipFill>
        <p:spPr>
          <a:xfrm>
            <a:off x="2362320" y="1752480"/>
            <a:ext cx="4647960" cy="451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dentify and tell the function of each part of the digestive system</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uth</a:t>
            </a:r>
            <a:br>
              <a:rPr sz="3200"/>
            </a:b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th bite off and chew food into a soft pulp that is easy to swallow.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wing mixes the food with saliva, from salivary glands around the mouth and face, to make it moist and easy to swall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03:04:49Z</dcterms:created>
  <dc:creator>Mary Poarch</dc:creator>
  <dc:description/>
  <dc:language>en-US</dc:language>
  <cp:lastModifiedBy>Mary Poarch</cp:lastModifiedBy>
  <dcterms:modified xsi:type="dcterms:W3CDTF">2005-02-13T21:19:17Z</dcterms:modified>
  <cp:revision>51</cp:revision>
  <dc:subject/>
  <dc:title>Nutrition &amp; Diges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17169659</vt:r8>
  </property>
  <property fmtid="{D5CDD505-2E9C-101B-9397-08002B2CF9AE}" pid="3" name="_AuthorEmail">
    <vt:lpwstr>mpoarch@ahisd.net</vt:lpwstr>
  </property>
  <property fmtid="{D5CDD505-2E9C-101B-9397-08002B2CF9AE}" pid="4" name="_AuthorEmailDisplayName">
    <vt:lpwstr>Mary Poarch</vt:lpwstr>
  </property>
  <property fmtid="{D5CDD505-2E9C-101B-9397-08002B2CF9AE}" pid="5" name="_EmailSubject">
    <vt:lpwstr/>
  </property>
  <property fmtid="{D5CDD505-2E9C-101B-9397-08002B2CF9AE}" pid="6" name="_ReviewingToolsShownOnce">
    <vt:lpwstr/>
  </property>
</Properties>
</file>